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A331-BFDC-43AA-93D5-D2FB4071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AB5-3095-4F88-A862-BA82C6CB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2346F-A235-46EE-B554-DD2DF814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00253-C417-4A68-8F7C-EADE77E6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DBFA4-8B57-43E0-B97E-C4F1852B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912B3-CC5A-409D-ADC7-0258A140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99A4F-E8F7-429A-BA2E-B662EEE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ADD83-6D6A-44B8-B77F-ED4DBF64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D3272-E4F1-451F-B4C2-37A7F64F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40316-22A6-4841-97FB-DF22BCD2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5A048-603C-4EE5-B369-386A70D8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A05A96-6677-4569-B745-CD0C4FC7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E52-65D1-4B03-8365-5CEE69E4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C40B9-20C5-43E7-93FF-C58021B3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2457F-C0F7-4CAB-8719-42AACF54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3EB77-C61A-452C-BCD4-2360035A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121FF-137E-4220-80F0-3C687D90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989A4-3B0C-4C54-84D4-F821E49A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4FD0F-77E5-446C-93D0-27129A93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8E98A-1059-4000-BAC4-306735A2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B655C-0AB7-4885-89C2-8BFDDC96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DF90D-78E6-4DA1-BE85-F0C7D25C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CBD3A-E5D2-4444-8364-7FCACC22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42E-D9F5-4B5E-9C3E-C9CF11A2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09EE0-FE78-46F4-A1E6-CD042C1C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8D3EB-A2EB-4C73-B6D1-BE7E8542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D35CD-1889-4525-AAC4-5C77DC34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E375D-CB19-4B2D-94FE-2A17EBF8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0F968-133B-468E-B643-2728CAFF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5CA14-DC4A-466C-BD7A-3D5B2DF6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68037-F1F4-4E3C-A1F3-D2BC9E5D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ED0B9-B5D8-41CE-9304-25E08348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9ACDD-91E0-47DE-935F-1BF6BECB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56E739-C5E4-48FC-A5E0-88A8C457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7381-4652-4FDA-B65C-D47572FE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ABADE-842F-40B2-9F1A-BBA02F94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D0330-391C-46F9-94E8-9761844F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BEE7B-FF3D-4696-BA4D-2BCA0A55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17429-846C-4886-B58B-13C32ADB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DFBA4-C602-4ED9-A426-FC256067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C5AB0-AC54-43D6-9B5D-5D06D25C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30089-1C8F-425A-8B10-6FF53506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5BE0B-F37C-4798-A586-1FD4BC55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D4F7D-5775-43A3-906A-605E6FF8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F4789-5275-4D85-B1A9-61F35074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2640-0697-422C-8B27-5BB7CB8E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D7D8A-0687-4FA2-969A-3C108082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20008-D9B0-4D6C-8A11-FB5071F4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1682C-83E5-4CFC-BB1E-61768644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6514D-6A4B-477F-8271-5505671D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C49A8-3E36-4D1E-851F-550B2548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6CBF9-B173-4660-BCE0-ACA0B766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A76DB-5C5B-483D-9735-36067C4C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D13A6C-1D3A-464E-AD63-D8C8021A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B15B2-DE71-44D4-81F2-C8CDE1A8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61B07-5000-41C8-A3F7-66E6E1DC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5336-B7B3-4135-BC3B-3CEA6613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7A50F-F41E-41E2-BEA1-116828DE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B1E29-630B-4137-AD58-97F7CFB8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BC83D-A289-452E-84FF-0D5CD152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5E068-6A26-44D0-BBE0-21EC5D09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CB931-9CA6-4308-BF64-505BFE98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C8271-A447-489E-8297-88A018F6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991EA-686A-4892-84CE-857EFE54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54BC1C-0C99-42E8-BAA7-5F3A0CB5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1E8B6-11DB-47D8-8A0A-A9A2D15D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CB38E-562D-4780-A815-88EE83F4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B7E0-CDD1-4ACE-B494-E7F4623B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1A4E8-1DAB-4F30-A20D-65C06839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09844-2764-4A88-AF11-400FA033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C4D9C-B632-43A4-8061-BA9C2CF9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0D32A-9450-49CA-99D1-8120DEFF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486F0-F4C0-45B9-848A-60A05FE7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EFF74E-8115-4DEA-8C64-6D12DCD2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7B757C-C652-48E6-BB0D-A4AAEE46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C1923-210C-4747-AEAF-E103D5B6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C317BA-2C8D-47ED-BBB5-A4BBD559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EABC7-C409-40DC-ACA0-C3997793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F163-0A10-4E6F-9456-5F1DB2F9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A856B-7B18-47ED-8FB3-5FFC0C3E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4A3E7-5737-4B13-A910-AF09B972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DDA3C3-0CF6-48B1-82FD-A9D8E0C8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917DF-EACB-4F88-B70E-DAE37A7C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E1F86F-72C4-41BD-ADB3-8542A4DB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67E527-C03B-4F94-91CD-766A26DE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899A9A-0239-4932-9C14-2224B96B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DC507-B507-4AB1-B955-836446A7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40088-4E3D-45A5-AB4D-02AB36E3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FD5C7-DB62-4B67-9DFC-9AF17F09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ED44-1428-4065-851D-29A1F605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32412-F1F2-419B-91E4-94DE2954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19840-D62D-4365-B4F7-37025584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38A93-B408-468B-8C46-0B4DB9AC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74B3B-4C10-46FB-9EEB-7AE0582B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7B59ED-83ED-43D3-9FA6-5F95800A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18E3A0-D5EC-4011-A402-AD1385B3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C55AC-EAFF-4ACC-93EC-D7783ED1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F24BB-4C97-46D6-9640-88AC093E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6C2A55-329C-4476-A815-0C14DDEE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028D1-73A2-45A7-9339-467D27E2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00FC-1B87-4C98-BFDF-C255B2B0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09A3D1-65C6-4241-B189-2E371A92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DC734-9BFA-4AA8-9110-3A85ED09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EE7B85-3F78-40D1-8A08-9E519698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10CFC4-4D35-44A7-9AED-9193496E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1C0B34-EA0C-481C-89CD-F727E8A8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D74AB-5F61-47E8-9CB8-9D5F5FC2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4F05B-2403-4D06-8E02-8DC9C070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DFCC67-6DD2-4C1B-A50D-1D5E74A5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B86604-784A-410D-9A11-070EA23C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7C2BCF-6CBE-458F-9227-957FEA2E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C968-B36E-416F-9A81-F432B9B0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5B17-889F-4DBC-B06B-F0F47CEF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AD1B4-D6D1-4516-B880-8463A6D9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B20FC1-A687-4104-88A8-DC5E1E87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03FA7-ACA8-414E-8B2F-8A0F7C10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97059A-892D-46F5-94D5-4BBDC1AE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D3476D-EE83-4B25-A7A3-B4855A5D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373C8E-FD3A-4837-A165-8D13BAEF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A0281-6C66-422E-8DE4-64785C80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20F696-3D70-4777-9C89-2B336DD9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C32CC8-6872-4D9F-8EA0-766A1884D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8364AB-DF57-41D4-96F6-03162080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C70E-3602-418B-BFD0-C0B627AE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5D6F3-C210-49A8-9FBC-EC1729FD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7252D-B20C-4572-85CC-EA676DC0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52DC4-F162-446E-940D-470ADAA1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B9D88-0A4A-4C9E-B56D-2B86FD6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518B0-6A57-4141-9429-B1D8EF34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59510D-1B1B-426C-BA20-AF5C6C94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01FF6-173D-44A5-9AA2-4E23FA05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D71BF7-8C1F-4192-960C-7FD09E0A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7E01A6-A4D2-4930-B6F5-833E650E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3D5B2-EE9D-4FB0-BA77-FC027314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666C-C594-4F3E-A5BB-5BD42EA7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79B7A2-76A9-42AF-944F-CEED333F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6D1D10-83B0-45F3-BC53-806E3537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00ECEE-74EA-490C-9F09-D245A213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78A0F-DA13-462F-9907-7343B165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6E751A-2B6C-49EF-8508-931B43E1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D6EC95-6529-49F6-97E0-3CD4B8DD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437CEB-FAF9-4FF6-8C58-CC90EBF8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B1E34C-C996-4BB6-AE26-ECA33CC2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68127C-7289-4B29-94FA-0BB81824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ADE390-7080-4B54-99AD-36A7E1BA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C3CF-7DFC-45A6-8C4F-9AA3BAFC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2DC234-802A-4172-A439-CB64D055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7A60A-5680-4760-AADC-5E109436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1F8F7D-62BE-49D4-A195-D41A8316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16C231-6C56-49B7-B514-404292E8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D89A9D-11C5-43F2-9B3E-F49C9EC7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79834-5F52-45D1-9B54-5A3CBF80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D8945-9B59-42EC-8520-66EE3894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F9F3B6-C84E-4051-9678-36CCC79C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BAB8A-064F-41F2-AAB1-5F515D2D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2BC3A6-C661-4DB7-82E6-B9F8A398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0B5FA-8971-404C-8E0D-20AA7774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B95AA6-B0B5-438D-9E94-4E5DA947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14CBBF-9BB4-42AC-A2E9-1E87B795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345D00-4C05-4CCB-BE49-C29D6AD6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3DB7BA-8EA7-413C-B512-2CC9BD84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0D2C46-C2AC-45CB-A747-61507AD4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14A111-F4C7-4D3B-8E61-8AD90B47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D9CC1-CD3C-4C43-A56D-F61531A1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3A03B-A766-448A-9953-ED34FE54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4EA0F2-122D-453D-9F66-BEDE356F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8CC8AF-4DC9-4D08-A0C2-A9300063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82235-CB9E-4167-951C-2EE8FEE8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F51619-5525-47FA-A5C0-A9B33BB6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3FE0F-665B-43D4-AE44-258410378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99A983-4EA2-42EF-B2A1-C5769F49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42F2-805F-4EC3-8478-C76725F2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CA3CC-8C7C-446A-906E-4FE04647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CDE7-ED74-4418-A626-32C8A6CF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35EB-41A0-4EEA-93F0-9BB9FB51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309-0EDF-4E56-AFC3-81FAAD3E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58F0-0443-49DF-BCC7-3F7A995A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2F7B-2F32-4D93-8B35-B2D90B6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58FEE-6860-4826-B2E3-79D0EEC9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83C9-8F38-416D-9C64-2D338B0B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2FC2-3741-448B-A5D4-0EDEBD7F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555BC-934A-49D7-A73B-4DDAD9C5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E0E9-19EF-4CD3-821F-E9DD9B08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83718-86CB-4D77-8332-C699DCA4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8B9F-781D-44E9-A564-DDA62CE0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F6FAE-86ED-422B-A33E-4D652031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F9E-58C7-42A1-AFEA-2F9507F8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8E03-9828-46AD-B7DF-2773B9CB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846FF-D9DB-4869-8597-768A561B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DCC7A-6A00-4E36-8639-FF155910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FCC19-B094-4C76-B2CA-DF648C54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75D93-80CD-4E14-9E1A-8B5D7DB0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1E508-2291-4C54-B5E3-73207A6B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D2816-CFBD-491B-ACF7-5A8D0097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C499-88CE-4A5C-8DE6-EAF9525B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0B9CE-8F44-42AB-A3B2-0D220714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619CE-8635-4852-994E-D0B6F4FA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4DE-98C1-4563-B3DA-AF30C3A5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4D834-6D0C-4E10-A604-EAC4B5B7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9445F-726F-4A67-BCBA-CB65D682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7ADC0-5A72-41E1-AFB2-861E9639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8EC80-BAF4-4596-A2FB-39F1AEE3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6FAF4-69C7-4DFD-9423-717E53AB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0627-6997-4B99-8F66-F19436EB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34015-0522-447D-8A17-715A2CF0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09082-DDBC-4505-8E90-DF94AAED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7AC9D-1F34-438D-88E9-63D2A469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F0450-65ED-4B17-9FEC-197BAE53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48BA-B1A1-41BB-B105-96991947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C279A-F649-41A2-AE16-C317F9D4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0B2E1-D933-4334-BEEA-69BF2124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B102E-2031-427F-B103-26DB1F10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FEFD7-2129-41D2-B244-298A9E9D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DB9E6-062A-44D7-A044-50C70726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27341-189C-4CCF-AA70-B7BC1A90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963FE-9ACF-45B8-8461-22F4D559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15943-1351-4E2A-96F3-775CF626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68621-0020-49FE-9DF3-6DB1E0D9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84D3E-1C61-4D67-98DB-F45ECBA7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38E-7211-4658-82FF-AB5E67AB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7BC53-BD4B-49B4-A1C5-0C6D6779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0C19F-1330-44DF-9DBA-ED4FBCB2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03A5E-01D4-4EB6-9F1B-9CBB1E98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B3A81-3BBF-4D6C-A0BD-3834C64F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B77FE-E5F0-4C6E-BE2B-2604B11C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FCC8B-AD1F-4BB2-97C7-6C88ADE8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B0BA6-4CC7-4017-8570-0920FF35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523A4-2205-41BA-A9E3-D8D5DBAB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5A159-5C8B-4191-8F7E-C341F4D2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9F7BF-DC00-4BB3-8071-6357423F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578-6AD9-4198-B536-7070F8C1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1A852-0D04-41D6-8770-A22210B8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02D68-9528-4DCF-ABB3-30636897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6C0A5-B212-4A3E-8AF6-E9EDA68B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F907F-A132-4209-A5FF-124ADE59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69A2E-1A6C-466B-BE39-6A91E223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8BFDA-C99B-48BE-AAC9-35C0FD1A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0E6CD-F228-4114-B1B3-0516B1BD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AC65F-4480-4AD5-83EE-1CA355E4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1295F-3958-471F-9E4F-280D45E5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FE9A4-39ED-431F-B732-6F602425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211C-6BB3-402B-87F3-43F13A8E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E3887-315F-4AA1-8F03-D96BE6E9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E9430-0C8B-4FE8-9351-B50F4D9E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53DDE-52CC-465A-B1D3-87B7EA4C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E7043-2406-45CB-BB70-77E58BCE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57192-ED85-4AE2-BF0A-E192944B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AD7B7-0F2F-4612-853F-F165467A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A0235-6F0C-4B22-BA6C-CFE6CFBA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B4621-6C02-497F-9497-A73921E4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ECFB6-7DAF-484F-A24C-98241AFD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C42B8-4B08-4A27-92D8-5D505996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7178-9D20-4758-BC6F-93104D019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7E8A-7BB8-4399-9DCE-87EA344516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45CD-3266-442A-9781-5DAC2155A1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924F-A84D-4FBC-AFE9-CD32F9F108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D762-24EA-40DC-8EAE-2B225371A4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6BCD-8AC3-4E78-8082-9A104FD9D2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8322-C158-423F-988F-AE42C728C1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DA73-C4E0-4C5C-85E9-8D96E46349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E6B0-2467-4E9A-B330-4CB5E5B246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6202-89F7-4B9D-B8EB-A28A590D15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6642-330F-4449-A966-39F6C2970E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6503-C06B-431D-A9A7-4B31538231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5AEC-266E-4CDB-BFCB-756FF00C0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8D6A-CB84-48E4-BB28-9586A82B5C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80B2-1E48-461A-B4CD-9DB283ACDE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A26E-0F79-49B9-8650-EEE8ACA68A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C57B-B87F-42E8-B4C8-9DACE2AEAB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F22E-BEFF-4ECC-8065-CBA905F548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A9C3-9049-404F-A4C6-33611D7332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804E-AAAC-4BE8-896B-87A5D35A6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0804-F2F3-4B4F-8FB8-0973FBA88C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38F8-E415-41E7-B8F2-7128D52CDB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F280-33D6-4C02-9F4C-9C49D65E11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FB28-2EF2-45BA-BF4C-B3DF3444F2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CB9A-65AF-4A04-A4B0-1163B8C6D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6289-0011-41AF-BF75-B5D983FEAD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3EFC-5A84-4F14-AA8A-E1C190B287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FA53-ABE3-4E6C-AFFB-2C8312DF1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5219-C532-42DC-86B2-C7599D14FA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516F-29A3-4847-A668-A7BB8657FE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6E65-2902-4D94-B2CD-9272AC7C74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816C-745C-4ABB-9C13-332B317C84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A097-4F6E-4338-823C-A8749C7398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4446-8D74-45BE-877F-6FF320930D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4953-0068-4FC2-B23C-CB45093079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ADD5-9216-4A8D-B433-86EFA95BAF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139A-F2B4-4BD8-8ED4-ED3F9752D8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9704-32F5-49BC-9A78-B03719D1F6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E6AC-43AB-4116-9578-BA81B258E6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8B2F-7F85-4AD6-ACFF-BAE5440D2F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062000" y="2525760"/>
            <a:ext cx="7020000" cy="6192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3166920" y="3630600"/>
            <a:ext cx="28101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29" name="组合 4104"/>
          <p:cNvGrpSpPr/>
          <p:nvPr/>
        </p:nvGrpSpPr>
        <p:grpSpPr>
          <a:xfrm>
            <a:off x="147600" y="1771560"/>
            <a:ext cx="8847000" cy="3286080"/>
            <a:chOff x="147600" y="1771560"/>
            <a:chExt cx="8847000" cy="3286080"/>
          </a:xfrm>
        </p:grpSpPr>
        <p:pic>
          <p:nvPicPr>
            <p:cNvPr id="1030" name="图片 1" descr=""/>
            <p:cNvPicPr/>
            <p:nvPr/>
          </p:nvPicPr>
          <p:blipFill>
            <a:blip r:embed="rId2"/>
            <a:stretch/>
          </p:blipFill>
          <p:spPr>
            <a:xfrm>
              <a:off x="147600" y="1771560"/>
              <a:ext cx="884700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Picture 1" descr=""/>
            <p:cNvPicPr/>
            <p:nvPr/>
          </p:nvPicPr>
          <p:blipFill>
            <a:blip r:embed="rId3"/>
            <a:stretch/>
          </p:blipFill>
          <p:spPr>
            <a:xfrm>
              <a:off x="1403280" y="3112920"/>
              <a:ext cx="720108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2" name="Picture 1" descr=""/>
            <p:cNvPicPr/>
            <p:nvPr/>
          </p:nvPicPr>
          <p:blipFill>
            <a:blip r:embed="rId4"/>
            <a:stretch/>
          </p:blipFill>
          <p:spPr>
            <a:xfrm>
              <a:off x="2050920" y="4076640"/>
              <a:ext cx="108108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3" name="Picture 1" descr=""/>
            <p:cNvPicPr/>
            <p:nvPr/>
          </p:nvPicPr>
          <p:blipFill>
            <a:blip r:embed="rId5"/>
            <a:stretch/>
          </p:blipFill>
          <p:spPr>
            <a:xfrm>
              <a:off x="5407200" y="4149720"/>
              <a:ext cx="1081080" cy="38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1" descr=""/>
            <p:cNvPicPr/>
            <p:nvPr/>
          </p:nvPicPr>
          <p:blipFill>
            <a:blip r:embed="rId6"/>
            <a:stretch/>
          </p:blipFill>
          <p:spPr>
            <a:xfrm>
              <a:off x="7020000" y="4033800"/>
              <a:ext cx="108108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直接连接符 4105"/>
          <p:cNvSpPr/>
          <p:nvPr/>
        </p:nvSpPr>
        <p:spPr>
          <a:xfrm>
            <a:off x="1720800" y="3097080"/>
            <a:ext cx="155592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4113"/>
          <p:cNvSpPr/>
          <p:nvPr/>
        </p:nvSpPr>
        <p:spPr>
          <a:xfrm flipH="1">
            <a:off x="1834920" y="3068640"/>
            <a:ext cx="1555560" cy="1297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4114"/>
          <p:cNvSpPr/>
          <p:nvPr/>
        </p:nvSpPr>
        <p:spPr>
          <a:xfrm>
            <a:off x="5091120" y="3097080"/>
            <a:ext cx="155592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4115"/>
          <p:cNvSpPr/>
          <p:nvPr/>
        </p:nvSpPr>
        <p:spPr>
          <a:xfrm>
            <a:off x="6877080" y="3111480"/>
            <a:ext cx="155556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4116"/>
          <p:cNvSpPr/>
          <p:nvPr/>
        </p:nvSpPr>
        <p:spPr>
          <a:xfrm flipH="1">
            <a:off x="5219640" y="3070080"/>
            <a:ext cx="3184560" cy="1295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528480" y="1652760"/>
            <a:ext cx="8085240" cy="3552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4317840" y="2982960"/>
            <a:ext cx="254160" cy="339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4716360" y="2968560"/>
            <a:ext cx="254160" cy="339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5062680" y="3313080"/>
            <a:ext cx="253800" cy="339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076720" y="3730680"/>
            <a:ext cx="254160" cy="339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4702320" y="4062240"/>
            <a:ext cx="253800" cy="339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4313160" y="4076640"/>
            <a:ext cx="254160" cy="339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3967200" y="3745080"/>
            <a:ext cx="253800" cy="339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3952800" y="3298680"/>
            <a:ext cx="254160" cy="3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90360" y="1390680"/>
            <a:ext cx="8961480" cy="40766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1173240" y="45673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1219320" y="2300400"/>
            <a:ext cx="6705360" cy="2257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1619280" y="24066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1619280" y="3500280"/>
            <a:ext cx="431640" cy="3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38160" y="1457280"/>
            <a:ext cx="9067680" cy="39434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1042920" y="20890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1042920" y="2708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4"/>
          <a:stretch/>
        </p:blipFill>
        <p:spPr>
          <a:xfrm>
            <a:off x="1087560" y="325584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38:25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